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DE96-B1E2-436C-A50D-A02642C8B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D510-28D5-4643-903A-DC09A85B5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27F1-C47F-4573-8455-C5ED21D4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3E7-9EBA-4952-B3F1-86E9A653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EAF6-2BCE-4464-AE18-274FDBEA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98A8-56AF-4950-806A-B27D3A38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B68-20FD-47F5-AC5B-91C083CF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29C5-FD0F-40E8-A075-D3B76731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212-6CE4-4495-A28B-2F9BB092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1A52-AAF5-4122-ACD6-20DEAB04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87F-3D9F-49D9-9968-52923124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10B5-6CDD-44F6-BE0B-83CE7A0A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D5B-09B2-4C92-AD36-1B7B74D2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A68C-6DE1-4FA0-BB84-C277EF69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D1C1-3F8A-45EE-841B-A7C37E6BD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ureen S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oureen 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oureen Sher (1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oureen Sh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oureen Sh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r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 nombre es Noureen Sher. Yo soy de los Estados Unidos. Yo amo la música y el canto. Tengo trece años. Yo amo One Direction, Ed Sheeran, Little Mix, and Taylor Swift. </a:t>
            </a:r>
            <a:r>
              <a:rPr b="0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Yo soy extrovertida y graciosa. Yo no muerden, add me! </a:t>
            </a:r>
            <a:r>
              <a:rPr b="0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7" descr="Photo on 2011-10-21 at 13.53 #2.jpg"/>
          <p:cNvPicPr/>
          <p:nvPr/>
        </p:nvPicPr>
        <p:blipFill>
          <a:blip r:embed="rId1"/>
          <a:stretch/>
        </p:blipFill>
        <p:spPr>
          <a:xfrm>
            <a:off x="36360" y="433440"/>
            <a:ext cx="1957680" cy="2060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62"/>
          <p:cNvSpPr/>
          <p:nvPr/>
        </p:nvSpPr>
        <p:spPr>
          <a:xfrm>
            <a:off x="762120" y="57150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6"/>
          <p:cNvSpPr/>
          <p:nvPr/>
        </p:nvSpPr>
        <p:spPr>
          <a:xfrm flipH="1">
            <a:off x="1371600" y="57150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8" descr="Photo on 2011-10-21 at 13.53 #2.jpg"/>
          <p:cNvPicPr/>
          <p:nvPr/>
        </p:nvPicPr>
        <p:blipFill>
          <a:blip r:embed="rId2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0" descr="Photo on 2011-10-21 at 13.39 #2.jpg"/>
          <p:cNvPicPr/>
          <p:nvPr/>
        </p:nvPicPr>
        <p:blipFill>
          <a:blip r:embed="rId3"/>
          <a:stretch/>
        </p:blipFill>
        <p:spPr>
          <a:xfrm>
            <a:off x="2109960" y="3273480"/>
            <a:ext cx="554040" cy="79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4" descr="Photo on 2011-10-21 at 13.53 #2.jpg"/>
          <p:cNvPicPr/>
          <p:nvPr/>
        </p:nvPicPr>
        <p:blipFill>
          <a:blip r:embed="rId4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8" descr="Photo on 2011-10-21 at 13.46.jpg"/>
          <p:cNvPicPr/>
          <p:nvPr/>
        </p:nvPicPr>
        <p:blipFill>
          <a:blip r:embed="rId5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Noure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Diciembre 3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9" descr="Photo on 2011-10-21 at 13.53 #2.jpg"/>
          <p:cNvPicPr/>
          <p:nvPr/>
        </p:nvPicPr>
        <p:blipFill>
          <a:blip r:embed="rId6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2" descr="Photo on 2011-10-21 at 13.46.jpg"/>
          <p:cNvPicPr/>
          <p:nvPr/>
        </p:nvPicPr>
        <p:blipFill>
          <a:blip r:embed="rId7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óla! Cómo están mis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2"/>
          <p:cNvSpPr/>
          <p:nvPr/>
        </p:nvSpPr>
        <p:spPr>
          <a:xfrm>
            <a:off x="685800" y="63244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hfoo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4:01:18Z</dcterms:created>
  <dc:creator>FriscoISD</dc:creator>
  <dc:description/>
  <dc:language>en-US</dc:language>
  <cp:lastModifiedBy>NYCDOE</cp:lastModifiedBy>
  <dcterms:modified xsi:type="dcterms:W3CDTF">2012-12-03T14:22:04Z</dcterms:modified>
  <cp:revision>100</cp:revision>
  <dc:subject/>
  <dc:title>Profile</dc:title>
</cp:coreProperties>
</file>